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977D-D0D6-44DA-B85A-DFDBD92183F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ant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esultant Force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wo forces act together on an object, their effect may be described as the action of one forc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f two forces act together on an object, their effect may be described as the action of one forc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orces of magnitude 5N and 6N act on a particle. They act at right angles. Find the magnitude and direction of their resul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wo forces of magnitude 5N and 6N act on a particle. They act at right angles. Find the magnitude and direction of their resultan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orces acting on a particle have magnitudes 8N and 3N. The angle between their directions is 60°. Find the resultant force acting on the p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wo forces acting on a particle have magnitudes 8N and 3N. The angle between their directions is 60°. Find the resultant force acting on the particl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forces (2i – j) N, 3i N and (-i + 4j) N, where i and j are unit vectors due east and due north respectively, act on a particle. Find the magnitude and direction of the resulting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ree forces (2i – j) N, 3i N and (-i + 4j) N, where i and j are unit vectors due east and due north respectively, act on a particle. Find the magnitude and direction of the resulting for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 P, Q and R act on a particle at O in the plane of the coordinate axes Ox, Oy, making angles p, q, r respectively with Ox in the first quadr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4 N, Q = 3 N, R = 6 N, p = 30°, q = 45°, r = 60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orces P, Q and R act on a particle at O in the plane of the coordinate axes Ox, Oy, making angles p, q, r respectively with Ox in the first quadran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 = 4 N, Q = 3 N, R = 6 N, p = 30°, q = 45°, r = 60°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0459-F22D-47A5-9813-17024803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48D4-CB8A-4A4C-80AB-F13B5E0C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6D4B-2A92-49A0-9EA4-68A70C44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62C1-E889-471C-ADA9-04EE0B5B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F3CD-F080-4287-BCF3-76AC1F7B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FF53-35C4-4ED6-B805-6F2FBB8C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BB87-2E5A-4C27-BB70-66FAD4D7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48BA-504D-4F76-983C-4E289D11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9BF4-CEFD-4733-9593-B41AC456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26CB-29C1-4374-A7EB-FC6232B7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DE5D-C20D-438B-A099-5949A83C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EB45-D6F8-4FFB-981A-AB00E692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6B61-F703-425B-9481-F0D4CEB4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41A1-9242-49C7-9FE9-62755B4B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F5E6-362B-489E-8B99-F4698068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6965-BC48-4A75-A91C-AE41EEC0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271C-EF0E-494B-B34A-9C1774EB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E41A-14B8-43C1-9B03-B035632E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A48-F517-4EBE-8B97-D6505678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6D1-AF4F-4126-A22C-5C101822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B988-88E2-4CF2-AFA8-0152CFED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376-DE1A-4FD4-945B-C55CBA8E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F78-8A46-4E9F-AD90-CB105E05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FE9E-ADDE-4CDF-8CBC-9D2AABB1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C55F-654F-472B-8D17-027353F1ACF4}" type="slidenum">
              <a:rPr b="0" lang="en-GB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367F-829E-485E-85B5-878ACC15476D}" type="slidenum">
              <a:rPr b="0" lang="en-GB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808080"/>
                </a:solidFill>
                <a:latin typeface="Century Gothic"/>
              </a:rPr>
              <a:t>Resultant Forces</a:t>
            </a:r>
            <a:endParaRPr b="0" lang="en-US" sz="6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632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If two forces act together on an object, their effect may be described as the action of one force.</a:t>
            </a:r>
            <a:br>
              <a:rPr sz="2400"/>
            </a:b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112000" cy="2146320"/>
          </a:xfrm>
          <a:prstGeom prst="rect">
            <a:avLst/>
          </a:prstGeom>
          <a:ln w="25560">
            <a:solidFill>
              <a:srgbClr val="c0c0c0"/>
            </a:solidFill>
            <a:prstDash val="lg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wo forces of magnitude 5N and 6N act on a particle. They act at right angles. Find the magnitude and direction of their resultant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wo forces acting on a particle have magnitudes 8N and 3N. The angle between their directions is 6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. Find the resultant force acting on the particle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hree forces (2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–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) N, 3i N and (-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+ 4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) N, where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nd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re unit vectors due east and due north respectively, act on a particle. Find the magnitude and direction of the resulting force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Forces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nd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ct on a particle at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in the plane of the coordinate axes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x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y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making angles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respectively with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x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in the first quadrant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4 N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3 N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6 N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3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45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6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09:05Z</dcterms:created>
  <dc:creator>zafer</dc:creator>
  <dc:description/>
  <cp:keywords/>
  <dc:language>en-US</dc:language>
  <cp:lastModifiedBy>RomaK</cp:lastModifiedBy>
  <dcterms:modified xsi:type="dcterms:W3CDTF">2015-09-03T12:36:45Z</dcterms:modified>
  <cp:revision>4</cp:revision>
  <dc:subject/>
  <dc:title>Forces as Ve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33</vt:lpwstr>
  </property>
</Properties>
</file>